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1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5" y="0"/>
                </a:moveTo>
                <a:arcTo wR="5" hR="5" stAng="16200000" swAng="-5400000"/>
                <a:lnTo>
                  <a:pt x="0" y="31506"/>
                </a:lnTo>
                <a:arcTo wR="5" hR="5" stAng="10800000" swAng="-5400000"/>
                <a:lnTo>
                  <a:pt x="21595" y="3151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5" y="0"/>
                </a:moveTo>
                <a:arcTo wR="5" hR="5" stAng="16200000" swAng="-5400000"/>
                <a:lnTo>
                  <a:pt x="0" y="31506"/>
                </a:lnTo>
                <a:arcTo wR="5" hR="5" stAng="10800000" swAng="-5400000"/>
                <a:lnTo>
                  <a:pt x="21595" y="3151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860640" y="0"/>
            <a:ext cx="2953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3760" y="745920"/>
            <a:ext cx="4965840" cy="37242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1120" y="4722840"/>
            <a:ext cx="54496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0" y="944244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3"/>
          </p:nvPr>
        </p:nvSpPr>
        <p:spPr>
          <a:xfrm>
            <a:off x="3860640" y="9442080"/>
            <a:ext cx="2949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EBE31-E966-4494-B64F-1570EA63B48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62027-3FFC-426A-91CE-5CD1F4F2847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6C0E4-F262-4ECF-B8D2-9FD5CD3C10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254A0-33FB-4114-A144-D8198D67F61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7EC37-C61E-4224-8102-7F1F34CF11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B5BFD-6B94-4D42-AD0E-C9ACB00A455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F5AAE-E5AD-4628-9DA3-61F55F723D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CC83A-6291-4376-85E2-CF4142A2C6B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58D4A-8C24-47AB-A558-C4FF2D8291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401F9-D6DD-41FF-AF05-6FF2F6A0320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D42EE-FDF7-4101-ACED-A5888FAFDB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5EDF2-FF80-4E3E-A580-40D1E04CA8B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CA46A-AD21-4657-ADDA-039D4224A6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B19B4-AE0F-4332-9243-BA9E45E3920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BDACF-FA0E-476D-801A-4E10ADBAF9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18A30-B5E3-42B5-9548-80AF949C692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514F3-A8CF-4F83-ADBF-0C6280EB72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58B7B-4268-4CE6-B5E3-E6EF7FCB90B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F5C84-52BB-4D53-8014-B24BFEDC87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D59B9-07FA-429E-8546-25460CD26E9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3DC9F-DB46-46C3-8F70-9A7CFB7823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9A5B9-8FA7-4AFE-8D2D-7848FD2E549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0C22C-AA11-4A9D-888C-1BDBF1900C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B14F1-DD68-453A-89F0-6C41ADB524B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5F88E-1718-45AC-B102-4C64BAD44E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8DB4F-3050-411F-8427-5733C7DA743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7B147-B1CD-4534-BAD5-B5D0F08EE0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86047-5D14-43BC-8708-874FACF601D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4BAF3-7DA0-487F-A331-A733570A01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E600C-03B5-4CA3-872C-2B4B72601AC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A8DD7-3576-4FB5-BFF6-1181ECEC51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733D5-82F0-4C56-808E-684161E5C0E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43E5F-BD78-45A2-880C-E865966620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82C06-6BB2-4142-8AF6-70F28C2C7F1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9E4F2-78EB-4F31-BDF6-D6E10AB5B8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A9D89-4832-4F12-A38E-CE62E630615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B6C2C-6D34-41CC-93B5-DCE53DC3A9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D34D9-2562-40F2-A129-AE66F074C0F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3B132-DE67-4AA7-919A-6772DFDA19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44747-ADFD-4A0C-A382-8F839074A9A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958FA-C6DF-4FD9-9136-7F3A0A1EFA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0121A-F949-4226-B116-FD70EE4E491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10D6B-E882-4326-B738-FE74934F5D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36456-7E05-40E7-BA91-4BFDC66A935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1D3E8-A75F-4A29-926E-3A2708ECFE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8CF23-4338-4BE2-B7E9-7FE7E16492D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18F9C-2857-4EFD-A0B5-A20D4A9C12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3ADC6-7EAD-4938-A5EF-1F0B409F15E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91D46-CF4D-4BDB-B6DA-D20E524C1B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8C279-4E14-47F1-8AAC-88076632E57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1FAED-11B0-488A-896E-2B916E10E6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FA2FB-42CC-438B-9C17-DA83098F45B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9A287-1D26-4783-A4B1-6E65ABF325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4EFCD-532D-461E-BFEF-71838385404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7BA89-AE84-49E8-8B6D-EA229F8EC3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"/>
          <p:cNvSpPr/>
          <p:nvPr/>
        </p:nvSpPr>
        <p:spPr>
          <a:xfrm>
            <a:off x="3860640" y="9442440"/>
            <a:ext cx="2949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BCCA7-9F65-49FC-B974-CF2EB4EDF5B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"/>
          <p:cNvSpPr/>
          <p:nvPr/>
        </p:nvSpPr>
        <p:spPr>
          <a:xfrm>
            <a:off x="3860640" y="944244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195F2-B6BD-48EA-8499-DBA945979E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B4EA-CE63-46E0-90DD-268FF8C31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61520"/>
            <a:ext cx="769284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0FB1-2F32-407F-9162-09819D331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61520"/>
            <a:ext cx="375408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61520"/>
            <a:ext cx="375408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9F9D-9235-4D20-9181-5DE119038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61520"/>
            <a:ext cx="247680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61520"/>
            <a:ext cx="247680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61520"/>
            <a:ext cx="247680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A436-81C5-44D8-8164-12103B912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37CE0-C636-4823-A75D-0CCA8329B7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0D8F-B660-4769-81DE-96F0DE726B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A6B98-7F8E-420D-9041-7D3E1FAC1E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837AA-89CA-4F93-9AEE-08C19B775C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6606C-16BA-419E-85BC-3D4D0958A6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E8E92-0188-435D-A9B1-80E6CEE32F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61520"/>
            <a:ext cx="375408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6D062-7833-4E40-912E-6E836C9DE7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F030-E591-4E58-8513-31B707190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61520"/>
            <a:ext cx="375408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F2C8D-1C62-4E66-A01D-D4D080DA66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61520"/>
            <a:ext cx="769284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271EF-0CBE-497D-994B-BB356F7929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61520"/>
            <a:ext cx="769284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1D057-EF44-4AB2-A659-220CD63976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61520"/>
            <a:ext cx="375408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61520"/>
            <a:ext cx="375408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49967-553D-4407-B979-7859CC1F24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61520"/>
            <a:ext cx="247680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61520"/>
            <a:ext cx="247680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61520"/>
            <a:ext cx="247680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74218-55A7-49A9-AD1A-27BB177FE7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970C-693C-402A-B65E-831FEFAD2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85C6-295C-44FE-80FE-BECB6A712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D2BE-48A2-4E99-AD95-15563DC69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EFD2F-7A6C-4388-8827-F869BDDEF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61520"/>
            <a:ext cx="375408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55FC-EAB4-48C8-94DA-2617DA4F3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61520"/>
            <a:ext cx="375408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7224-A5D4-40BA-9E2D-FD61D8F06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61520"/>
            <a:ext cx="7692840" cy="19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D9E1-F32F-4D11-A2F2-9A443062E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76212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27F579-4511-4ECC-AE26-16AB75AEBD38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68120" y="228600"/>
            <a:ext cx="8820360" cy="6093000"/>
            <a:chOff x="168120" y="228600"/>
            <a:chExt cx="8820360" cy="6093000"/>
          </a:xfrm>
        </p:grpSpPr>
        <p:sp>
          <p:nvSpPr>
            <p:cNvPr id="6" name="AutoShape 7"/>
            <p:cNvSpPr/>
            <p:nvPr/>
          </p:nvSpPr>
          <p:spPr>
            <a:xfrm>
              <a:off x="168120" y="228600"/>
              <a:ext cx="8820360" cy="6093000"/>
            </a:xfrm>
            <a:prstGeom prst="roundRect">
              <a:avLst>
                <a:gd name="adj" fmla="val 11046"/>
              </a:avLst>
            </a:prstGeom>
            <a:noFill/>
            <a:ln cap="sq"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Line 8"/>
            <p:cNvSpPr/>
            <p:nvPr/>
          </p:nvSpPr>
          <p:spPr>
            <a:xfrm>
              <a:off x="762120" y="1709640"/>
              <a:ext cx="7692840" cy="0"/>
            </a:xfrm>
            <a:prstGeom prst="line">
              <a:avLst/>
            </a:prstGeom>
            <a:ln cap="sq"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76212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743760-CFCD-494B-B7AD-3B01B556F0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685800" y="-30492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336666"/>
                </a:solidFill>
                <a:latin typeface="Arial Black"/>
              </a:rPr>
              <a:t>ОТЧЁТ ОБ ИСПОЛНЕНИИ БЮДЖЕТА ЗА 202</a:t>
            </a:r>
            <a:r>
              <a:rPr b="0" i="1" lang="en-US" sz="4000" spc="-1" strike="noStrike">
                <a:solidFill>
                  <a:srgbClr val="336666"/>
                </a:solidFill>
                <a:latin typeface="Arial Black"/>
              </a:rPr>
              <a:t>4</a:t>
            </a:r>
            <a:r>
              <a:rPr b="0" i="1" lang="ru-RU" sz="4000" spc="-1" strike="noStrike">
                <a:solidFill>
                  <a:srgbClr val="336666"/>
                </a:solidFill>
                <a:latin typeface="Arial Black"/>
              </a:rPr>
              <a:t>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04920" y="358128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ун. Чадыр - Лунг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марта 20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6666"/>
                </a:solidFill>
                <a:latin typeface="Arial Black"/>
              </a:rPr>
              <a:t>Доходы от аренды зем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Group 2"/>
          <p:cNvGrpSpPr/>
          <p:nvPr/>
        </p:nvGrpSpPr>
        <p:grpSpPr>
          <a:xfrm>
            <a:off x="468360" y="1900080"/>
            <a:ext cx="8596440" cy="4604040"/>
            <a:chOff x="468360" y="1900080"/>
            <a:chExt cx="8596440" cy="4604040"/>
          </a:xfrm>
        </p:grpSpPr>
        <p:pic>
          <p:nvPicPr>
            <p:cNvPr id="160" name="Object 3" descr=""/>
            <p:cNvPicPr/>
            <p:nvPr/>
          </p:nvPicPr>
          <p:blipFill>
            <a:blip r:embed="rId1"/>
            <a:stretch/>
          </p:blipFill>
          <p:spPr>
            <a:xfrm>
              <a:off x="468360" y="1900080"/>
              <a:ext cx="8596440" cy="460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4"/>
            <p:cNvSpPr/>
            <p:nvPr/>
          </p:nvSpPr>
          <p:spPr>
            <a:xfrm>
              <a:off x="762120" y="1900080"/>
              <a:ext cx="8302680" cy="46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762120" y="-3808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ассовый расход за 2024 год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57160" y="285840"/>
          <a:ext cx="7500960" cy="6357960"/>
        </p:xfrm>
        <a:graphic>
          <a:graphicData uri="http://schemas.openxmlformats.org/drawingml/2006/table">
            <a:tbl>
              <a:tblPr/>
              <a:tblGrid>
                <a:gridCol w="6215040"/>
                <a:gridCol w="1285920"/>
              </a:tblGrid>
              <a:tr h="572400">
                <a:tc>
                  <a:txBody>
                    <a:bodyPr lIns="90000" rIns="90000" tIns="11376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376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 algn="ctr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Статья расходов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 algn="ctr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Сумма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39840" algn="ctr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тыс. лее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211180 – Оплата труда штатных работни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 algn="ctr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43 33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211310 – Талоны на пит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 algn="ctr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461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212100 – Взносы обязательного государственного социального страх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 algn="ctr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12 81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28440" rIns="284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273500 – Компенсации оплачиваемые из финансовых средств работодателя за временную нетрудоспособ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 algn="ctr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68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222110 – Электроэнер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 algn="ctr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306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22120 – Природный га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 algn="ctr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 35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222140 – Вода и водоотвед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 algn="ctr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504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222190 – Прочие коммунальные услуг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 algn="ctr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2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222210 – Информационные услуг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 algn="ctr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248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222220 – Телекоммуникационные услуг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 algn="ctr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56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222300 – Услуги по найму помещ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 algn="ctr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2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222400 – Транспортные услуг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 algn="ctr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33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222500 – Услуги по текущему ремон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 algn="ctr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223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222600 – Профессиональная подготов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b">
                      <a:noAutofit/>
                    </a:bodyPr>
                    <a:p>
                      <a:pPr marL="343080" indent="-339840" algn="ctr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9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810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22710 – Служебные командировки внутри стра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785880" y="198360"/>
          <a:ext cx="7513560" cy="6089760"/>
        </p:xfrm>
        <a:graphic>
          <a:graphicData uri="http://schemas.openxmlformats.org/drawingml/2006/table">
            <a:tbl>
              <a:tblPr/>
              <a:tblGrid>
                <a:gridCol w="6286320"/>
                <a:gridCol w="1227240"/>
              </a:tblGrid>
              <a:tr h="313560">
                <a:tc>
                  <a:txBody>
                    <a:bodyPr lIns="90000" rIns="90000" tIns="810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22720 – Служебные командировки за границ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22910 – Издательские услуг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92,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22920 – Протокольные услуг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37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22940 – Охранные услуг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8,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22960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–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слуги по оценке актив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2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28440" rIns="28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22970,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22980 – Банковские, почтовые услуг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37,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22999 – Услуги, не отнесенные к другим подстатья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 951,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42620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–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центы по муниципальным облигация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48,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42700 –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центы по кредиту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44,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63190 – Текущие гранты, предоставленные получателям внутри стран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50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72500 – Компенсаци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24,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72600 – Денежная помощ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 096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73200 – Компенсации при прекращении трудового контракт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2,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81600 – Прочие расходы на основании договоров с физическими лицам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36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81900 – Прочие текущие расход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28,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82100 – Капитальные расходы на топографо-геодезические, картографические и кадастровые работ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3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2900 – Капитальные расходы, не отнесенные к другим категория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75,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84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311120 – Капитальный ремонт зда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4 089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312110 – Покупка специальных сооруж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78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857160" y="214200"/>
          <a:ext cx="7513560" cy="6377040"/>
        </p:xfrm>
        <a:graphic>
          <a:graphicData uri="http://schemas.openxmlformats.org/drawingml/2006/table">
            <a:tbl>
              <a:tblPr/>
              <a:tblGrid>
                <a:gridCol w="6357960"/>
                <a:gridCol w="1155600"/>
              </a:tblGrid>
              <a:tr h="29556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312120 – Капитальный ремонт специальных сооруж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8 63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313110 – Покупка передаточных установ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36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313120 – Ремонт передаточных установ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314110 – Покупка машин и оборудо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1 97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315110 – Покупка транспортных средст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1 404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316110 – Покупка орудий и инструментов, хоз. инвентар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511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317110 – Покупка нематериальных актив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15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318110 – Покупка прочих основных средст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746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319210, 319220, 319230 – Незавершенное строитель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8 151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28440" rIns="284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319240 – Подготовка проек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410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31110 – Покупка топлива и горюче-смазочных материа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 168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332110 – Покупка запасных част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55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333110 – Покупка продуктов пит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 26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334110 – Покупка лекарственных препаратов и санитарных материа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5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336110 – Покупка хозяйственных материалов и канцелярских принадлежност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8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337110 – Покупка строительных материа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94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338110 – Покупка постельных принадлежностей, одежды, обув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5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339110 – Покупка прочих материа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6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515220 – Выкуп муниципальных облигац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 0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552120 – Возврат креди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8208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b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труктура расходов бюджета за 202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4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год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Group 2"/>
          <p:cNvGrpSpPr/>
          <p:nvPr/>
        </p:nvGrpSpPr>
        <p:grpSpPr>
          <a:xfrm>
            <a:off x="0" y="334800"/>
            <a:ext cx="8911800" cy="6523200"/>
            <a:chOff x="0" y="334800"/>
            <a:chExt cx="8911800" cy="6523200"/>
          </a:xfrm>
        </p:grpSpPr>
        <p:pic>
          <p:nvPicPr>
            <p:cNvPr id="168" name="Object 3" descr=""/>
            <p:cNvPicPr/>
            <p:nvPr/>
          </p:nvPicPr>
          <p:blipFill>
            <a:blip r:embed="rId1"/>
            <a:stretch/>
          </p:blipFill>
          <p:spPr>
            <a:xfrm>
              <a:off x="0" y="1667160"/>
              <a:ext cx="8174880" cy="51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4"/>
            <p:cNvSpPr/>
            <p:nvPr/>
          </p:nvSpPr>
          <p:spPr>
            <a:xfrm>
              <a:off x="736920" y="334800"/>
              <a:ext cx="8174880" cy="51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785880" y="64296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Анализ структуры расходов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2"/>
          <p:cNvGrpSpPr/>
          <p:nvPr/>
        </p:nvGrpSpPr>
        <p:grpSpPr>
          <a:xfrm>
            <a:off x="255600" y="1700280"/>
            <a:ext cx="8662680" cy="4868280"/>
            <a:chOff x="255600" y="1700280"/>
            <a:chExt cx="8662680" cy="4868280"/>
          </a:xfrm>
        </p:grpSpPr>
        <p:pic>
          <p:nvPicPr>
            <p:cNvPr id="172" name="Object 3" descr=""/>
            <p:cNvPicPr/>
            <p:nvPr/>
          </p:nvPicPr>
          <p:blipFill>
            <a:blip r:embed="rId1"/>
            <a:stretch/>
          </p:blipFill>
          <p:spPr>
            <a:xfrm>
              <a:off x="255600" y="1700280"/>
              <a:ext cx="8662680" cy="482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4"/>
            <p:cNvSpPr/>
            <p:nvPr/>
          </p:nvSpPr>
          <p:spPr>
            <a:xfrm>
              <a:off x="275400" y="1785240"/>
              <a:ext cx="8629560" cy="47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714240" y="50004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расходов на образование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2"/>
          <p:cNvGrpSpPr/>
          <p:nvPr/>
        </p:nvGrpSpPr>
        <p:grpSpPr>
          <a:xfrm>
            <a:off x="185760" y="1503360"/>
            <a:ext cx="8858160" cy="4741920"/>
            <a:chOff x="185760" y="1503360"/>
            <a:chExt cx="8858160" cy="4741920"/>
          </a:xfrm>
        </p:grpSpPr>
        <p:pic>
          <p:nvPicPr>
            <p:cNvPr id="176" name="Object 3" descr=""/>
            <p:cNvPicPr/>
            <p:nvPr/>
          </p:nvPicPr>
          <p:blipFill>
            <a:blip r:embed="rId1"/>
            <a:stretch/>
          </p:blipFill>
          <p:spPr>
            <a:xfrm>
              <a:off x="185760" y="1503360"/>
              <a:ext cx="8858160" cy="47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4"/>
            <p:cNvSpPr/>
            <p:nvPr/>
          </p:nvSpPr>
          <p:spPr>
            <a:xfrm>
              <a:off x="371520" y="1901880"/>
              <a:ext cx="83865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Оплата расходов на содержание детских садов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Group 2"/>
          <p:cNvGrpSpPr/>
          <p:nvPr/>
        </p:nvGrpSpPr>
        <p:grpSpPr>
          <a:xfrm>
            <a:off x="585720" y="1785960"/>
            <a:ext cx="8558280" cy="4486320"/>
            <a:chOff x="585720" y="1785960"/>
            <a:chExt cx="8558280" cy="4486320"/>
          </a:xfrm>
        </p:grpSpPr>
        <p:pic>
          <p:nvPicPr>
            <p:cNvPr id="180" name="Object 3" descr=""/>
            <p:cNvPicPr/>
            <p:nvPr/>
          </p:nvPicPr>
          <p:blipFill>
            <a:blip r:embed="rId1"/>
            <a:stretch/>
          </p:blipFill>
          <p:spPr>
            <a:xfrm>
              <a:off x="585720" y="1785960"/>
              <a:ext cx="8558280" cy="44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4"/>
            <p:cNvSpPr/>
            <p:nvPr/>
          </p:nvSpPr>
          <p:spPr>
            <a:xfrm>
              <a:off x="585720" y="1785960"/>
              <a:ext cx="8558280" cy="44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Расходы на питание в детских садах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2"/>
          <p:cNvGrpSpPr/>
          <p:nvPr/>
        </p:nvGrpSpPr>
        <p:grpSpPr>
          <a:xfrm>
            <a:off x="585720" y="1900080"/>
            <a:ext cx="8558280" cy="4486320"/>
            <a:chOff x="585720" y="1900080"/>
            <a:chExt cx="8558280" cy="4486320"/>
          </a:xfrm>
        </p:grpSpPr>
        <p:pic>
          <p:nvPicPr>
            <p:cNvPr id="184" name="Object 3" descr=""/>
            <p:cNvPicPr/>
            <p:nvPr/>
          </p:nvPicPr>
          <p:blipFill>
            <a:blip r:embed="rId1"/>
            <a:stretch/>
          </p:blipFill>
          <p:spPr>
            <a:xfrm>
              <a:off x="585720" y="1900080"/>
              <a:ext cx="8558280" cy="44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4"/>
            <p:cNvSpPr/>
            <p:nvPr/>
          </p:nvSpPr>
          <p:spPr>
            <a:xfrm>
              <a:off x="585720" y="1900080"/>
              <a:ext cx="8558280" cy="44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расходов на оплату товаров и услуг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Group 2"/>
          <p:cNvGrpSpPr/>
          <p:nvPr/>
        </p:nvGrpSpPr>
        <p:grpSpPr>
          <a:xfrm>
            <a:off x="371520" y="1901880"/>
            <a:ext cx="8386560" cy="4383000"/>
            <a:chOff x="371520" y="1901880"/>
            <a:chExt cx="8386560" cy="4383000"/>
          </a:xfrm>
        </p:grpSpPr>
        <p:pic>
          <p:nvPicPr>
            <p:cNvPr id="188" name="Object 3" descr=""/>
            <p:cNvPicPr/>
            <p:nvPr/>
          </p:nvPicPr>
          <p:blipFill>
            <a:blip r:embed="rId1"/>
            <a:stretch/>
          </p:blipFill>
          <p:spPr>
            <a:xfrm>
              <a:off x="371520" y="1941480"/>
              <a:ext cx="838656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4"/>
            <p:cNvSpPr/>
            <p:nvPr/>
          </p:nvSpPr>
          <p:spPr>
            <a:xfrm>
              <a:off x="371520" y="1901880"/>
              <a:ext cx="83865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труктура доходной части бюджета города за 202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4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год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2"/>
          <p:cNvGrpSpPr/>
          <p:nvPr/>
        </p:nvGrpSpPr>
        <p:grpSpPr>
          <a:xfrm>
            <a:off x="0" y="-71280"/>
            <a:ext cx="8848800" cy="6157440"/>
            <a:chOff x="0" y="-71280"/>
            <a:chExt cx="8848800" cy="6157440"/>
          </a:xfrm>
        </p:grpSpPr>
        <p:pic>
          <p:nvPicPr>
            <p:cNvPr id="101" name="Object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848800" cy="60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4"/>
            <p:cNvSpPr/>
            <p:nvPr/>
          </p:nvSpPr>
          <p:spPr>
            <a:xfrm>
              <a:off x="12600" y="-71280"/>
              <a:ext cx="8780760" cy="57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расходов на капитальные вложения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2"/>
          <p:cNvGrpSpPr/>
          <p:nvPr/>
        </p:nvGrpSpPr>
        <p:grpSpPr>
          <a:xfrm>
            <a:off x="371520" y="1901880"/>
            <a:ext cx="8386560" cy="4343400"/>
            <a:chOff x="371520" y="1901880"/>
            <a:chExt cx="8386560" cy="4343400"/>
          </a:xfrm>
        </p:grpSpPr>
        <p:pic>
          <p:nvPicPr>
            <p:cNvPr id="192" name="Object 3" descr=""/>
            <p:cNvPicPr/>
            <p:nvPr/>
          </p:nvPicPr>
          <p:blipFill>
            <a:blip r:embed="rId1"/>
            <a:stretch/>
          </p:blipFill>
          <p:spPr>
            <a:xfrm>
              <a:off x="371520" y="1901880"/>
              <a:ext cx="838656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4"/>
            <p:cNvSpPr/>
            <p:nvPr/>
          </p:nvSpPr>
          <p:spPr>
            <a:xfrm>
              <a:off x="371520" y="1901880"/>
              <a:ext cx="83865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Оплата расходов за природный газ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2"/>
          <p:cNvGrpSpPr/>
          <p:nvPr/>
        </p:nvGrpSpPr>
        <p:grpSpPr>
          <a:xfrm>
            <a:off x="677880" y="1643040"/>
            <a:ext cx="8108640" cy="4500720"/>
            <a:chOff x="677880" y="1643040"/>
            <a:chExt cx="8108640" cy="4500720"/>
          </a:xfrm>
        </p:grpSpPr>
        <p:pic>
          <p:nvPicPr>
            <p:cNvPr id="196" name="Object 3" descr=""/>
            <p:cNvPicPr/>
            <p:nvPr/>
          </p:nvPicPr>
          <p:blipFill>
            <a:blip r:embed="rId1"/>
            <a:stretch/>
          </p:blipFill>
          <p:spPr>
            <a:xfrm>
              <a:off x="677880" y="1671840"/>
              <a:ext cx="7994520" cy="44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4"/>
            <p:cNvSpPr/>
            <p:nvPr/>
          </p:nvSpPr>
          <p:spPr>
            <a:xfrm>
              <a:off x="791640" y="1643040"/>
              <a:ext cx="7994880" cy="44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расходов по культуре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2"/>
          <p:cNvGrpSpPr/>
          <p:nvPr/>
        </p:nvGrpSpPr>
        <p:grpSpPr>
          <a:xfrm>
            <a:off x="371520" y="1901880"/>
            <a:ext cx="8386560" cy="4343400"/>
            <a:chOff x="371520" y="1901880"/>
            <a:chExt cx="8386560" cy="4343400"/>
          </a:xfrm>
        </p:grpSpPr>
        <p:pic>
          <p:nvPicPr>
            <p:cNvPr id="200" name="Object 3" descr=""/>
            <p:cNvPicPr/>
            <p:nvPr/>
          </p:nvPicPr>
          <p:blipFill>
            <a:blip r:embed="rId1"/>
            <a:stretch/>
          </p:blipFill>
          <p:spPr>
            <a:xfrm>
              <a:off x="371520" y="1901880"/>
              <a:ext cx="838656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4"/>
            <p:cNvSpPr/>
            <p:nvPr/>
          </p:nvSpPr>
          <p:spPr>
            <a:xfrm>
              <a:off x="371520" y="1901880"/>
              <a:ext cx="83865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Расходы на проведение спортивных мероприятий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2"/>
          <p:cNvGrpSpPr/>
          <p:nvPr/>
        </p:nvGrpSpPr>
        <p:grpSpPr>
          <a:xfrm>
            <a:off x="609480" y="1371600"/>
            <a:ext cx="7998120" cy="5102280"/>
            <a:chOff x="609480" y="1371600"/>
            <a:chExt cx="7998120" cy="5102280"/>
          </a:xfrm>
        </p:grpSpPr>
        <p:pic>
          <p:nvPicPr>
            <p:cNvPr id="204" name="Object 3" descr=""/>
            <p:cNvPicPr/>
            <p:nvPr/>
          </p:nvPicPr>
          <p:blipFill>
            <a:blip r:embed="rId1"/>
            <a:stretch/>
          </p:blipFill>
          <p:spPr>
            <a:xfrm>
              <a:off x="609480" y="1371600"/>
              <a:ext cx="79981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4"/>
            <p:cNvSpPr/>
            <p:nvPr/>
          </p:nvSpPr>
          <p:spPr>
            <a:xfrm>
              <a:off x="609480" y="1371600"/>
              <a:ext cx="799812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расходов по соцобеспечению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Group 2"/>
          <p:cNvGrpSpPr/>
          <p:nvPr/>
        </p:nvGrpSpPr>
        <p:grpSpPr>
          <a:xfrm>
            <a:off x="371520" y="1901880"/>
            <a:ext cx="8386560" cy="4343400"/>
            <a:chOff x="371520" y="1901880"/>
            <a:chExt cx="8386560" cy="4343400"/>
          </a:xfrm>
        </p:grpSpPr>
        <p:pic>
          <p:nvPicPr>
            <p:cNvPr id="208" name="Object 3" descr=""/>
            <p:cNvPicPr/>
            <p:nvPr/>
          </p:nvPicPr>
          <p:blipFill>
            <a:blip r:embed="rId1"/>
            <a:stretch/>
          </p:blipFill>
          <p:spPr>
            <a:xfrm>
              <a:off x="371520" y="1901880"/>
              <a:ext cx="838656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4"/>
            <p:cNvSpPr/>
            <p:nvPr/>
          </p:nvSpPr>
          <p:spPr>
            <a:xfrm>
              <a:off x="371520" y="1901880"/>
              <a:ext cx="83865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785880" y="642960"/>
            <a:ext cx="7696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 Black"/>
              </a:rPr>
              <a:t>Расходы по разделу «Жилищно-коммунальное хозяйств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2"/>
          <p:cNvGrpSpPr/>
          <p:nvPr/>
        </p:nvGrpSpPr>
        <p:grpSpPr>
          <a:xfrm>
            <a:off x="500040" y="1857240"/>
            <a:ext cx="8282160" cy="4556160"/>
            <a:chOff x="500040" y="1857240"/>
            <a:chExt cx="8282160" cy="4556160"/>
          </a:xfrm>
        </p:grpSpPr>
        <p:pic>
          <p:nvPicPr>
            <p:cNvPr id="212" name="Object 3" descr=""/>
            <p:cNvPicPr/>
            <p:nvPr/>
          </p:nvPicPr>
          <p:blipFill>
            <a:blip r:embed="rId1"/>
            <a:stretch/>
          </p:blipFill>
          <p:spPr>
            <a:xfrm>
              <a:off x="500040" y="1857240"/>
              <a:ext cx="8282160" cy="45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4"/>
            <p:cNvSpPr/>
            <p:nvPr/>
          </p:nvSpPr>
          <p:spPr>
            <a:xfrm>
              <a:off x="500040" y="1857240"/>
              <a:ext cx="828216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762120" y="258840"/>
            <a:ext cx="769608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Остатки денежных средств на счетах Примэрии 20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15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-2023 гг, тыс. леев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357120" y="1593720"/>
            <a:ext cx="8607600" cy="4837320"/>
            <a:chOff x="357120" y="1593720"/>
            <a:chExt cx="8607600" cy="4837320"/>
          </a:xfrm>
        </p:grpSpPr>
        <p:sp>
          <p:nvSpPr>
            <p:cNvPr id="216" name="Text Box 4"/>
            <p:cNvSpPr/>
            <p:nvPr/>
          </p:nvSpPr>
          <p:spPr>
            <a:xfrm>
              <a:off x="538200" y="1593720"/>
              <a:ext cx="8373960" cy="46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7" name="Object 3" descr=""/>
            <p:cNvPicPr/>
            <p:nvPr/>
          </p:nvPicPr>
          <p:blipFill>
            <a:blip r:embed="rId1"/>
            <a:stretch/>
          </p:blipFill>
          <p:spPr>
            <a:xfrm>
              <a:off x="357120" y="1785960"/>
              <a:ext cx="8607600" cy="4645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762120" y="258840"/>
            <a:ext cx="769608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Динамика кредиторской и дебиторской задолженности на период 20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15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– 202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4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гг., тыс. леев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Group 2"/>
          <p:cNvGrpSpPr/>
          <p:nvPr/>
        </p:nvGrpSpPr>
        <p:grpSpPr>
          <a:xfrm>
            <a:off x="285840" y="1676520"/>
            <a:ext cx="9214920" cy="4682880"/>
            <a:chOff x="285840" y="1676520"/>
            <a:chExt cx="9214920" cy="4682880"/>
          </a:xfrm>
        </p:grpSpPr>
        <p:pic>
          <p:nvPicPr>
            <p:cNvPr id="220" name="Object 3" descr=""/>
            <p:cNvPicPr/>
            <p:nvPr/>
          </p:nvPicPr>
          <p:blipFill>
            <a:blip r:embed="rId1"/>
            <a:stretch/>
          </p:blipFill>
          <p:spPr>
            <a:xfrm>
              <a:off x="285840" y="1714680"/>
              <a:ext cx="9214920" cy="46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4"/>
            <p:cNvSpPr/>
            <p:nvPr/>
          </p:nvSpPr>
          <p:spPr>
            <a:xfrm>
              <a:off x="810720" y="1676520"/>
              <a:ext cx="8573760" cy="46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714240" y="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Кредиторская задолженность на 01.0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1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.202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5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год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920" y="1130400"/>
          <a:ext cx="8385120" cy="5825880"/>
        </p:xfrm>
        <a:graphic>
          <a:graphicData uri="http://schemas.openxmlformats.org/drawingml/2006/table">
            <a:tbl>
              <a:tblPr/>
              <a:tblGrid>
                <a:gridCol w="3841560"/>
                <a:gridCol w="4543560"/>
              </a:tblGrid>
              <a:tr h="843480">
                <a:tc>
                  <a:txBody>
                    <a:bodyPr lIns="90000" rIns="90000" tIns="96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татья затр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редиторская задолженность, тыс. лее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аработная плата с отчислениями за декабрь 202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8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 т. ч. Школа футбола – 348,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иродный газ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Электроэнерг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дукты пита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ода и водоотведени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2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екущий ремонт,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стройматериалы, обслуживание котельных, запча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,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 т. ч. Школа футбола – 36,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ап. ремонт, приобретение основных средст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 25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 т. ч. Школа футбола – 69,7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анцелярские и хозтовары,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издательские услуг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,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 т. ч. Школа футбола – 2,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56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азное (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интернет, связь, транспортные услуги, представительские расходы, охрана, почтовые услуги, обслуживание программного комплекса, топливо, мусор, физ лица, ком. услуг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аренда, кадастровые услуг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58,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 т. ч. Школа футбола – 194,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1036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Итого: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36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81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(в т. ч. Школа футбола 651,1 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762120" y="15084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налоговых доходов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"/>
          <p:cNvGrpSpPr/>
          <p:nvPr/>
        </p:nvGrpSpPr>
        <p:grpSpPr>
          <a:xfrm>
            <a:off x="289080" y="1752480"/>
            <a:ext cx="4306680" cy="3468960"/>
            <a:chOff x="289080" y="1752480"/>
            <a:chExt cx="4306680" cy="3468960"/>
          </a:xfrm>
        </p:grpSpPr>
        <p:pic>
          <p:nvPicPr>
            <p:cNvPr id="105" name="Object 3" descr=""/>
            <p:cNvPicPr/>
            <p:nvPr/>
          </p:nvPicPr>
          <p:blipFill>
            <a:blip r:embed="rId1"/>
            <a:stretch/>
          </p:blipFill>
          <p:spPr>
            <a:xfrm>
              <a:off x="289080" y="2863800"/>
              <a:ext cx="4306680" cy="23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4"/>
            <p:cNvSpPr/>
            <p:nvPr/>
          </p:nvSpPr>
          <p:spPr>
            <a:xfrm>
              <a:off x="380880" y="1752480"/>
              <a:ext cx="4015080" cy="24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Group 8"/>
          <p:cNvGrpSpPr/>
          <p:nvPr/>
        </p:nvGrpSpPr>
        <p:grpSpPr>
          <a:xfrm>
            <a:off x="4494240" y="1676520"/>
            <a:ext cx="4494240" cy="4721040"/>
            <a:chOff x="4494240" y="1676520"/>
            <a:chExt cx="4494240" cy="4721040"/>
          </a:xfrm>
        </p:grpSpPr>
        <p:pic>
          <p:nvPicPr>
            <p:cNvPr id="108" name="Object 9" descr=""/>
            <p:cNvPicPr/>
            <p:nvPr/>
          </p:nvPicPr>
          <p:blipFill>
            <a:blip r:embed="rId2"/>
            <a:stretch/>
          </p:blipFill>
          <p:spPr>
            <a:xfrm>
              <a:off x="4494240" y="1676520"/>
              <a:ext cx="4494240" cy="47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0"/>
            <p:cNvSpPr/>
            <p:nvPr/>
          </p:nvSpPr>
          <p:spPr>
            <a:xfrm>
              <a:off x="4494240" y="1676520"/>
              <a:ext cx="4494240" cy="47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внутренних налогов на товары и услуги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4354560" y="2144880"/>
            <a:ext cx="4059360" cy="3068640"/>
            <a:chOff x="4354560" y="2144880"/>
            <a:chExt cx="4059360" cy="3068640"/>
          </a:xfrm>
        </p:grpSpPr>
        <p:pic>
          <p:nvPicPr>
            <p:cNvPr id="112" name="Object 3" descr=""/>
            <p:cNvPicPr/>
            <p:nvPr/>
          </p:nvPicPr>
          <p:blipFill>
            <a:blip r:embed="rId1"/>
            <a:stretch/>
          </p:blipFill>
          <p:spPr>
            <a:xfrm>
              <a:off x="4354560" y="2144880"/>
              <a:ext cx="4059360" cy="30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4"/>
            <p:cNvSpPr/>
            <p:nvPr/>
          </p:nvSpPr>
          <p:spPr>
            <a:xfrm>
              <a:off x="4357800" y="2709720"/>
              <a:ext cx="4029120" cy="18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Group 5"/>
          <p:cNvGrpSpPr/>
          <p:nvPr/>
        </p:nvGrpSpPr>
        <p:grpSpPr>
          <a:xfrm>
            <a:off x="326880" y="2362320"/>
            <a:ext cx="4029120" cy="2894040"/>
            <a:chOff x="326880" y="2362320"/>
            <a:chExt cx="4029120" cy="2894040"/>
          </a:xfrm>
        </p:grpSpPr>
        <p:pic>
          <p:nvPicPr>
            <p:cNvPr id="115" name="Object 6" descr=""/>
            <p:cNvPicPr/>
            <p:nvPr/>
          </p:nvPicPr>
          <p:blipFill>
            <a:blip r:embed="rId2"/>
            <a:stretch/>
          </p:blipFill>
          <p:spPr>
            <a:xfrm>
              <a:off x="326880" y="2362320"/>
              <a:ext cx="4015080" cy="28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7"/>
            <p:cNvSpPr/>
            <p:nvPr/>
          </p:nvSpPr>
          <p:spPr>
            <a:xfrm>
              <a:off x="341280" y="3211560"/>
              <a:ext cx="401472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762120" y="42876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неналоговых поступлений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"/>
          <p:cNvGrpSpPr/>
          <p:nvPr/>
        </p:nvGrpSpPr>
        <p:grpSpPr>
          <a:xfrm>
            <a:off x="500040" y="1984320"/>
            <a:ext cx="3754440" cy="1743120"/>
            <a:chOff x="500040" y="1984320"/>
            <a:chExt cx="3754440" cy="1743120"/>
          </a:xfrm>
        </p:grpSpPr>
        <p:pic>
          <p:nvPicPr>
            <p:cNvPr id="119" name="Object 3" descr=""/>
            <p:cNvPicPr/>
            <p:nvPr/>
          </p:nvPicPr>
          <p:blipFill>
            <a:blip r:embed="rId1"/>
            <a:stretch/>
          </p:blipFill>
          <p:spPr>
            <a:xfrm>
              <a:off x="500040" y="1984320"/>
              <a:ext cx="37544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4"/>
            <p:cNvSpPr/>
            <p:nvPr/>
          </p:nvSpPr>
          <p:spPr>
            <a:xfrm>
              <a:off x="500040" y="1984320"/>
              <a:ext cx="375444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Group 5"/>
          <p:cNvGrpSpPr/>
          <p:nvPr/>
        </p:nvGrpSpPr>
        <p:grpSpPr>
          <a:xfrm>
            <a:off x="4676760" y="1973160"/>
            <a:ext cx="3753000" cy="1741680"/>
            <a:chOff x="4676760" y="1973160"/>
            <a:chExt cx="3753000" cy="1741680"/>
          </a:xfrm>
        </p:grpSpPr>
        <p:pic>
          <p:nvPicPr>
            <p:cNvPr id="122" name="Object 6" descr=""/>
            <p:cNvPicPr/>
            <p:nvPr/>
          </p:nvPicPr>
          <p:blipFill>
            <a:blip r:embed="rId2"/>
            <a:stretch/>
          </p:blipFill>
          <p:spPr>
            <a:xfrm>
              <a:off x="4676760" y="1973160"/>
              <a:ext cx="3753000" cy="17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4676760" y="1973160"/>
              <a:ext cx="3753000" cy="17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4689360" y="3929040"/>
            <a:ext cx="3778200" cy="2158920"/>
            <a:chOff x="4689360" y="3929040"/>
            <a:chExt cx="3778200" cy="2158920"/>
          </a:xfrm>
        </p:grpSpPr>
        <p:pic>
          <p:nvPicPr>
            <p:cNvPr id="125" name="Object 9" descr=""/>
            <p:cNvPicPr/>
            <p:nvPr/>
          </p:nvPicPr>
          <p:blipFill>
            <a:blip r:embed="rId3"/>
            <a:stretch/>
          </p:blipFill>
          <p:spPr>
            <a:xfrm>
              <a:off x="4714920" y="3929040"/>
              <a:ext cx="3752640" cy="17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/>
            <p:cNvSpPr/>
            <p:nvPr/>
          </p:nvSpPr>
          <p:spPr>
            <a:xfrm>
              <a:off x="4689360" y="4346640"/>
              <a:ext cx="375300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474840" y="3968640"/>
            <a:ext cx="3754440" cy="1743120"/>
            <a:chOff x="474840" y="3968640"/>
            <a:chExt cx="3754440" cy="1743120"/>
          </a:xfrm>
        </p:grpSpPr>
        <p:pic>
          <p:nvPicPr>
            <p:cNvPr id="128" name="Object 12" descr=""/>
            <p:cNvPicPr/>
            <p:nvPr/>
          </p:nvPicPr>
          <p:blipFill>
            <a:blip r:embed="rId4"/>
            <a:stretch/>
          </p:blipFill>
          <p:spPr>
            <a:xfrm>
              <a:off x="474840" y="3968640"/>
              <a:ext cx="37544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/>
            <p:cNvSpPr/>
            <p:nvPr/>
          </p:nvSpPr>
          <p:spPr>
            <a:xfrm>
              <a:off x="474840" y="3968640"/>
              <a:ext cx="375444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административных сборов и платежей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2"/>
          <p:cNvGrpSpPr/>
          <p:nvPr/>
        </p:nvGrpSpPr>
        <p:grpSpPr>
          <a:xfrm>
            <a:off x="781200" y="2006640"/>
            <a:ext cx="3735360" cy="1733400"/>
            <a:chOff x="781200" y="2006640"/>
            <a:chExt cx="3735360" cy="1733400"/>
          </a:xfrm>
        </p:grpSpPr>
        <p:pic>
          <p:nvPicPr>
            <p:cNvPr id="132" name="Object 3" descr=""/>
            <p:cNvPicPr/>
            <p:nvPr/>
          </p:nvPicPr>
          <p:blipFill>
            <a:blip r:embed="rId1"/>
            <a:stretch/>
          </p:blipFill>
          <p:spPr>
            <a:xfrm>
              <a:off x="781200" y="2006640"/>
              <a:ext cx="373536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4"/>
            <p:cNvSpPr/>
            <p:nvPr/>
          </p:nvSpPr>
          <p:spPr>
            <a:xfrm>
              <a:off x="781200" y="2006640"/>
              <a:ext cx="3735360" cy="17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5"/>
          <p:cNvGrpSpPr/>
          <p:nvPr/>
        </p:nvGrpSpPr>
        <p:grpSpPr>
          <a:xfrm>
            <a:off x="4689360" y="1905120"/>
            <a:ext cx="3753000" cy="1936800"/>
            <a:chOff x="4689360" y="1905120"/>
            <a:chExt cx="3753000" cy="1936800"/>
          </a:xfrm>
        </p:grpSpPr>
        <p:pic>
          <p:nvPicPr>
            <p:cNvPr id="135" name="Object 6" descr=""/>
            <p:cNvPicPr/>
            <p:nvPr/>
          </p:nvPicPr>
          <p:blipFill>
            <a:blip r:embed="rId2"/>
            <a:stretch/>
          </p:blipFill>
          <p:spPr>
            <a:xfrm>
              <a:off x="4689360" y="1905120"/>
              <a:ext cx="37530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4689360" y="1905120"/>
              <a:ext cx="3753000" cy="19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4937040" y="3635280"/>
            <a:ext cx="3735360" cy="1733400"/>
            <a:chOff x="4937040" y="3635280"/>
            <a:chExt cx="3735360" cy="1733400"/>
          </a:xfrm>
        </p:grpSpPr>
        <p:pic>
          <p:nvPicPr>
            <p:cNvPr id="138" name="Object 9" descr=""/>
            <p:cNvPicPr/>
            <p:nvPr/>
          </p:nvPicPr>
          <p:blipFill>
            <a:blip r:embed="rId3"/>
            <a:stretch/>
          </p:blipFill>
          <p:spPr>
            <a:xfrm>
              <a:off x="4937040" y="3635280"/>
              <a:ext cx="373536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4937040" y="3635280"/>
              <a:ext cx="3735360" cy="17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765000" y="3614760"/>
            <a:ext cx="3735360" cy="1733400"/>
            <a:chOff x="765000" y="3614760"/>
            <a:chExt cx="3735360" cy="1733400"/>
          </a:xfrm>
        </p:grpSpPr>
        <p:pic>
          <p:nvPicPr>
            <p:cNvPr id="141" name="Object 12" descr=""/>
            <p:cNvPicPr/>
            <p:nvPr/>
          </p:nvPicPr>
          <p:blipFill>
            <a:blip r:embed="rId4"/>
            <a:stretch/>
          </p:blipFill>
          <p:spPr>
            <a:xfrm>
              <a:off x="765000" y="3614760"/>
              <a:ext cx="373536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765000" y="3614760"/>
              <a:ext cx="3735360" cy="17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3" name="Object 14" descr=""/>
          <p:cNvPicPr/>
          <p:nvPr/>
        </p:nvPicPr>
        <p:blipFill>
          <a:blip r:embed="rId5"/>
          <a:stretch/>
        </p:blipFill>
        <p:spPr>
          <a:xfrm>
            <a:off x="4800600" y="1981080"/>
            <a:ext cx="401796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762120" y="3049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поступления трансфертов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2"/>
          <p:cNvGrpSpPr/>
          <p:nvPr/>
        </p:nvGrpSpPr>
        <p:grpSpPr>
          <a:xfrm>
            <a:off x="642960" y="1746360"/>
            <a:ext cx="8229600" cy="4611600"/>
            <a:chOff x="642960" y="1746360"/>
            <a:chExt cx="8229600" cy="4611600"/>
          </a:xfrm>
        </p:grpSpPr>
        <p:pic>
          <p:nvPicPr>
            <p:cNvPr id="146" name="Object 3" descr=""/>
            <p:cNvPicPr/>
            <p:nvPr/>
          </p:nvPicPr>
          <p:blipFill>
            <a:blip r:embed="rId1"/>
            <a:stretch/>
          </p:blipFill>
          <p:spPr>
            <a:xfrm>
              <a:off x="646200" y="1746360"/>
              <a:ext cx="8226360" cy="45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4"/>
            <p:cNvSpPr/>
            <p:nvPr/>
          </p:nvSpPr>
          <p:spPr>
            <a:xfrm>
              <a:off x="642960" y="1789200"/>
              <a:ext cx="8226360" cy="45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Text Box 5"/>
          <p:cNvSpPr/>
          <p:nvPr/>
        </p:nvSpPr>
        <p:spPr>
          <a:xfrm>
            <a:off x="785880" y="1643040"/>
            <a:ext cx="48578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Доля в структуре доходов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2015 г. – 61,47%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 г. –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58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86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%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201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 г. –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59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9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7%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21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 г. –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54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31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201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г. – 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58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77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%      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22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 г. –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62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58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2018 г. – 63,74%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2023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г. – 62,9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2019 г. – 65,28% 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   2024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г. – 58,3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762120" y="258840"/>
            <a:ext cx="769608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Динамика исполнения доходной части бюджета города с 20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15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по 202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4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годы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2"/>
          <p:cNvGrpSpPr/>
          <p:nvPr/>
        </p:nvGrpSpPr>
        <p:grpSpPr>
          <a:xfrm>
            <a:off x="285840" y="1768320"/>
            <a:ext cx="8700840" cy="4410360"/>
            <a:chOff x="285840" y="1768320"/>
            <a:chExt cx="8700840" cy="4410360"/>
          </a:xfrm>
        </p:grpSpPr>
        <p:pic>
          <p:nvPicPr>
            <p:cNvPr id="151" name="Object 3" descr=""/>
            <p:cNvPicPr/>
            <p:nvPr/>
          </p:nvPicPr>
          <p:blipFill>
            <a:blip r:embed="rId1"/>
            <a:stretch/>
          </p:blipFill>
          <p:spPr>
            <a:xfrm>
              <a:off x="285840" y="1768320"/>
              <a:ext cx="8700840" cy="441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4"/>
            <p:cNvSpPr/>
            <p:nvPr/>
          </p:nvSpPr>
          <p:spPr>
            <a:xfrm>
              <a:off x="285840" y="1768320"/>
              <a:ext cx="8700840" cy="44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доходов от операций с капиталом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2"/>
          <p:cNvGrpSpPr/>
          <p:nvPr/>
        </p:nvGrpSpPr>
        <p:grpSpPr>
          <a:xfrm>
            <a:off x="380880" y="1625760"/>
            <a:ext cx="8428320" cy="4924440"/>
            <a:chOff x="380880" y="1625760"/>
            <a:chExt cx="8428320" cy="4924440"/>
          </a:xfrm>
        </p:grpSpPr>
        <p:pic>
          <p:nvPicPr>
            <p:cNvPr id="155" name="Object 3" descr=""/>
            <p:cNvPicPr/>
            <p:nvPr/>
          </p:nvPicPr>
          <p:blipFill>
            <a:blip r:embed="rId1"/>
            <a:stretch/>
          </p:blipFill>
          <p:spPr>
            <a:xfrm>
              <a:off x="380880" y="1625760"/>
              <a:ext cx="8428320" cy="49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4"/>
            <p:cNvSpPr/>
            <p:nvPr/>
          </p:nvSpPr>
          <p:spPr>
            <a:xfrm>
              <a:off x="380880" y="1625760"/>
              <a:ext cx="8428320" cy="49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Text Box 5"/>
          <p:cNvSpPr/>
          <p:nvPr/>
        </p:nvSpPr>
        <p:spPr>
          <a:xfrm>
            <a:off x="1357200" y="1928880"/>
            <a:ext cx="2357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оля в бюджет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201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г. –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34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201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г. –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45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%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2020 г. –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,82%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2021 г. – 4,96%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2022 г. – 4,29%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2023 г. – 2,78%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24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г. – 1,16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cp:lastPrinted>2013-02-19T06:25:02Z</cp:lastPrinted>
  <dcterms:modified xsi:type="dcterms:W3CDTF">2025-03-21T08:50:05Z</dcterms:modified>
  <cp:revision>9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